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23766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6CA26-949B-4E42-B646-D3EC71B454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8178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22480"/>
            <a:ext cx="8178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63245-BB41-4939-A457-B36A7744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2520" y="13780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224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2520" y="38224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D6202-8AAE-4745-AC57-9B872A54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2633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7280" y="1378080"/>
            <a:ext cx="2633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92800" y="1378080"/>
            <a:ext cx="2633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22480"/>
            <a:ext cx="2633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7280" y="3822480"/>
            <a:ext cx="2633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92800" y="3822480"/>
            <a:ext cx="2633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9C784-0423-4792-8C9F-678E4E233E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67EAD-4799-46DA-9B65-282C322CF0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1760" y="1378080"/>
            <a:ext cx="81788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AC6E6-32DD-4F3D-A60B-C9E82C0E90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81788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CA842-A0BB-4CA9-89B1-6F2CC1929F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3990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2520" y="1378080"/>
            <a:ext cx="3990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DD2F8-60C4-461F-9300-2D37EECDC7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027B3-DEBB-456A-A05A-227418AD1D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1760" y="228240"/>
            <a:ext cx="81788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24C79-6A87-4926-8CCF-048D0A3491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2520" y="1378080"/>
            <a:ext cx="3990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1760" y="38224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0921C-8C06-47CF-8141-687A007252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378080"/>
            <a:ext cx="81788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0DD16-64F0-4E22-B22B-D6E8ADC8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3990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2520" y="13780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2520" y="38224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E0D03-D6C4-4AC6-B660-2804DD8343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2520" y="13780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1760" y="3822480"/>
            <a:ext cx="8178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95DB8-97DC-4911-97B3-8C04AB581D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8178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1760" y="3822480"/>
            <a:ext cx="8178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475A4-0BF1-4DB6-B495-4B49F8FE95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2520" y="13780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1760" y="38224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2520" y="38224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D0395-8698-416E-8A14-7A5E614E39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2633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27280" y="1378080"/>
            <a:ext cx="2633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92800" y="1378080"/>
            <a:ext cx="2633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1760" y="3822480"/>
            <a:ext cx="2633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27280" y="3822480"/>
            <a:ext cx="2633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92800" y="3822480"/>
            <a:ext cx="2633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D02E7-AB7F-4720-9CCE-02BE5760E4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81788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D0982-387E-4938-BA26-E1B14E06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3990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52520" y="1378080"/>
            <a:ext cx="3990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788D9-A72C-4493-8FAF-574B93F9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A0122-CE87-4634-8572-465A2DDD4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1760" y="228240"/>
            <a:ext cx="81788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FBB68-E898-4EE7-A0D6-BE4E121D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2520" y="1378080"/>
            <a:ext cx="3990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224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ACF8E-4549-4913-A861-CA6E4705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3990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2520" y="13780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2520" y="38224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1A4F6-2B4D-414D-9A04-C9310BF8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2520" y="13780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22480"/>
            <a:ext cx="8178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A94F8-81A1-469A-B567-A8B34AB8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378080"/>
            <a:ext cx="81788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66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6600c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66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17880" y="6433920"/>
            <a:ext cx="12700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Comic Sans MS"/>
              </a:rPr>
              <a:t>         </a:t>
            </a:r>
            <a:r>
              <a:rPr b="0" lang="en-US" sz="1000" spc="-1" strike="noStrike">
                <a:solidFill>
                  <a:srgbClr val="5e574e"/>
                </a:solidFill>
                <a:latin typeface="Comic Sans MS"/>
              </a:rPr>
              <a:t>24.10</a:t>
            </a:r>
            <a:r>
              <a:rPr b="0" lang="fi-FI" sz="1000" spc="-1" strike="noStrike">
                <a:solidFill>
                  <a:srgbClr val="5e574e"/>
                </a:solidFill>
                <a:latin typeface="Comic Sans MS"/>
              </a:rPr>
              <a:t>.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15160" y="6433920"/>
            <a:ext cx="1270080" cy="2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Comic Sans MS"/>
              </a:rPr>
              <a:t>Sivu  </a:t>
            </a:r>
            <a:fld id="{1016ADF3-C6F3-40BD-B362-B9475E876B48}" type="slidenum">
              <a:rPr b="0" lang="en-US" sz="1000" spc="-1" strike="noStrike">
                <a:solidFill>
                  <a:srgbClr val="5e574e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5e574e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914400" y="907920"/>
            <a:ext cx="8229600" cy="38448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50920" y="6345360"/>
            <a:ext cx="2827080" cy="345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19240" y="643428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nceptia 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63280" y="1196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3"/>
          </p:nvPr>
        </p:nvSpPr>
        <p:spPr>
          <a:xfrm>
            <a:off x="3149640" y="632412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6603840" y="632412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D733-53E1-4FDA-8A2C-6AECEF2635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2529000"/>
            <a:ext cx="8229600" cy="384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934920" y="189000"/>
            <a:ext cx="6048360" cy="752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948360" y="189000"/>
            <a:ext cx="1224000" cy="887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9240" y="643428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nceptia 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499"/>
              </a:spcBef>
              <a:buClr>
                <a:srgbClr val="6600cc"/>
              </a:buClr>
              <a:buFont typeface="Monotype Sorts" charset="2"/>
              <a:buChar char="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51"/>
              </a:spcBef>
              <a:buClr>
                <a:srgbClr val="6600cc"/>
              </a:buClr>
              <a:buFont typeface="Wingdings" charset="2"/>
              <a:buChar char="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51"/>
              </a:spcBef>
              <a:buClr>
                <a:srgbClr val="6600cc"/>
              </a:buClr>
              <a:buFont typeface="Comic Sans MS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63280" y="1196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Yleinen kuljetuskehys</a:t>
            </a:r>
            <a:br>
              <a:rPr sz="3200"/>
            </a:b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OID 1.2.246.777.11.2003.x</a:t>
            </a:r>
            <a:endParaRPr b="0" lang="en-US" sz="32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158920" y="36446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omic Sans MS"/>
              </a:rPr>
              <a:t>TP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omic Sans MS"/>
              </a:rPr>
              <a:t>SOAP Määrityks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omic Sans MS"/>
              </a:rPr>
              <a:t>Timo Itälä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omic Sans MS"/>
              </a:rPr>
              <a:t>18.12.200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Sanomien Body-osien schemat:</a:t>
            </a:r>
            <a:br>
              <a:rPr sz="3200"/>
            </a:b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Lähete/Hoitopalaute</a:t>
            </a:r>
            <a:endParaRPr b="0" lang="en-US" sz="32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431640" y="2492280"/>
            <a:ext cx="522000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Lähete/Hoitopalautesanoman schema kattaa sekä lähetteen että hoitopalautte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SOAP-ENV: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arb:REFS xmlns:arb="urn::refdb-body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REF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/arb:REF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/SOAP-ENV: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360" y="1341360"/>
            <a:ext cx="2845080" cy="532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D197B-E020-4A36-BB5E-134F59317D22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DD1CFD-4CBA-4473-8907-0D74700828BD}" type="datetime1">
              <a:rPr lang="en-US"/>
              <a:t>07/29/26</a:t>
            </a:fld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Sanomien Body-osien schemat:</a:t>
            </a:r>
            <a:br>
              <a:rPr sz="3200"/>
            </a:b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Lähete/Hoitopalautteen kuittaus LAHEKU</a:t>
            </a:r>
            <a:endParaRPr b="0" lang="en-US" sz="32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1655640" y="3392640"/>
            <a:ext cx="658836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Lähete/Hoitopalautesanoman schema kattaa sekä lähetteen että hoitopalautte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SOAP-ENV: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arb:MAIN_LEVEL xmlns:arb="urn::refdb-body"&gt;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/arb:MAIN_LEVE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/SOAP-ENV: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987640" y="1773360"/>
            <a:ext cx="3133800" cy="92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3AB1B-AB03-4995-B82B-A458E8B4A34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F5EAE1-17D2-45DE-B275-BC5AD8A81330}" type="datetime1">
              <a:rPr lang="en-US"/>
              <a:t>07/29/26</a:t>
            </a:fld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Kehyksen Action-elementin ja Bodyn metodin vastaavuudet</a:t>
            </a:r>
            <a:endParaRPr b="0" lang="en-US" sz="3200" spc="-1" strike="noStrike">
              <a:solidFill>
                <a:srgbClr val="6600cc"/>
              </a:solidFill>
              <a:latin typeface="Comic Sans MS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76360" y="1592280"/>
          <a:ext cx="8178840" cy="4492440"/>
        </p:xfrm>
        <a:graphic>
          <a:graphicData uri="http://schemas.openxmlformats.org/drawingml/2006/table">
            <a:tbl>
              <a:tblPr/>
              <a:tblGrid>
                <a:gridCol w="2725560"/>
                <a:gridCol w="2727360"/>
                <a:gridCol w="2725920"/>
              </a:tblGrid>
              <a:tr h="36972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tod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iteaihioiden lähet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A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adersB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K Kuitta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kB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rhekuitta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KB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itatun sisällön kys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E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ERY_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itatun sisällön vasta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DAB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ähete/Hoitopala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FD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ähete/Hoitopalautteen kuitta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IN_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mit sano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mitB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E25E6-6986-42CC-BC05-26B5A91D2B55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3E6EF-2E6C-4515-B006-6A1F58CCD06D}" type="datetime1">
              <a:rPr lang="en-US"/>
              <a:t>07/29/26</a:t>
            </a:fld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6600cc"/>
                </a:solidFill>
                <a:latin typeface="Comic Sans MS"/>
              </a:rPr>
              <a:t>Toimituspaketti</a:t>
            </a: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2168640"/>
            <a:ext cx="270036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Kokonaiset sano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Sche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Tämä Powerpoint-esit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32000" y="2816280"/>
            <a:ext cx="1189080" cy="14436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12720" y="3643200"/>
            <a:ext cx="1908360" cy="36036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232000" y="5336640"/>
            <a:ext cx="1224000" cy="180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456000" y="1557360"/>
            <a:ext cx="5353200" cy="429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F7BF2-CAEA-4C27-9C23-47ECB00089F5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3118AD-916F-42AE-81FE-B7B2144FB6E1}" type="datetime1">
              <a:rPr lang="en-US"/>
              <a:t>07/29/26</a:t>
            </a:fld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Avoimet Rajapinnat 1.1 määritysten muutokset 18.12.2003</a:t>
            </a:r>
            <a:endParaRPr b="0" lang="en-US" sz="32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58560" y="1378080"/>
            <a:ext cx="858204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omic Sans MS"/>
              </a:rPr>
              <a:t>Määrityksiin on tehty seuraavia muutoksi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omic Sans MS"/>
              </a:rPr>
              <a:t>SOAP sanoman body-osa on varustettu luokan ja metodin tunnuksella, jolloin SOAP-prosessori ohjaa sanoman suoraan sen käsittelijäl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omic Sans MS"/>
              </a:rPr>
              <a:t>Schemat on jaettu uudestaan siten, että kaikille sanomatyypeille on yhteinen SOAP-headerin schema sekä jokaiselle oma SOAP-bodyn schem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omic Sans MS"/>
              </a:rPr>
              <a:t>Muutosten ansiosta sovellusten rakentaminen helpottuu sekä ajoaikainen suoritus kevene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omic Sans MS"/>
              </a:rPr>
              <a:t>Nykyisiin sanomiin tehtävät muutokse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omic Sans MS"/>
              </a:rPr>
              <a:t>Kaikissa sanomissa SOAP body-osan alkuun on lisättävä luokan ja metodin tunnu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omic Sans MS"/>
              </a:rPr>
              <a:t>Muutokset tulevat voimaan he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omic Sans MS"/>
              </a:rPr>
              <a:t>Uusi sanoma mukana paketiss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omic Sans MS"/>
              </a:rPr>
              <a:t>Uutena sanomana on pakettiin lisätty luonnosvaiheessa oleva lähete/hoitopalaute- sekä tämän kuittaussanoma ja näiden sche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EE73E-F893-46D1-A04C-6EC774C7A81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BFE07-6758-4EA7-93C5-C133EF52C860}" type="datetime1">
              <a:rPr lang="en-US"/>
              <a:t>07/29/26</a:t>
            </a:fld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6600cc"/>
                </a:solidFill>
                <a:latin typeface="Comic Sans MS"/>
              </a:rPr>
              <a:t>Sanomien Header-osan schema</a:t>
            </a: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5581440" cy="3162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30200" y="4473720"/>
            <a:ext cx="83898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Header-osan schema on kaikille sanomille yhtei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ar:MessageHeader on kaikille pakollinen element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muut elementit eivät esiinny kaikissa sanomissa, joten ne on merkitty vapaaehtoisiksi. Sovelluksen on tarkistettava, että käsiteltävänä olevassa sanomassa on tarpeelliset element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Body-osaa ei ole tarkoitus parsia eikä validoida Headerin käsittelyn yhteydess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E3A3A-DCAC-4FED-B478-7D458D5D5F9F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4B5961-9350-4882-9DF4-707E70008F2D}" type="datetime1">
              <a:rPr lang="en-US"/>
              <a:t>07/29/26</a:t>
            </a:fld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7280" y="188640"/>
            <a:ext cx="81788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Sanomien Body-osien schemat:</a:t>
            </a:r>
            <a:br>
              <a:rPr sz="3200"/>
            </a:b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Viiteaihiot</a:t>
            </a:r>
            <a:endParaRPr b="0" lang="en-US" sz="3200" spc="-1" strike="noStrike">
              <a:solidFill>
                <a:srgbClr val="6600cc"/>
              </a:solidFill>
              <a:latin typeface="Comic Sans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19280" y="1268280"/>
            <a:ext cx="3657600" cy="838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0920" y="2384280"/>
            <a:ext cx="8389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Jokaiselle sanomalle on oma Body-osan sch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Body-osa alkaa esimerkiksi seuraavas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SOAP-ENV: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arb:HeadersBody xmlns:arb="URN::refdb-body"&gt;</a:t>
            </a:r>
            <a:br>
              <a:rPr sz="1600"/>
            </a:br>
            <a:br>
              <a:rPr sz="1600"/>
            </a:b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clinical_document_head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id EX="a123" RT="1.2.246.576.10.Y-tunnus.13.2002.1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9280" y="3141720"/>
            <a:ext cx="2665440" cy="574560"/>
          </a:xfrm>
          <a:prstGeom prst="ellipse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7984400">
            <a:off x="5040720" y="2996640"/>
            <a:ext cx="540000" cy="252360"/>
          </a:xfrm>
          <a:prstGeom prst="leftArrow">
            <a:avLst>
              <a:gd name="adj1" fmla="val 50000"/>
              <a:gd name="adj2" fmla="val 5349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45080" y="2563560"/>
            <a:ext cx="251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mic Sans MS"/>
              </a:rPr>
              <a:t>Luokka, joka käsittelee sanomien body-osat. Sama kaikille sanomil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7465800">
            <a:off x="503280" y="3680280"/>
            <a:ext cx="539640" cy="252360"/>
          </a:xfrm>
          <a:prstGeom prst="leftArrow">
            <a:avLst>
              <a:gd name="adj1" fmla="val 50000"/>
              <a:gd name="adj2" fmla="val 5345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280" y="4219200"/>
            <a:ext cx="187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mic Sans MS"/>
              </a:rPr>
              <a:t>Metodi, joka käsittelee viiteaihi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7A4F9-85BC-45D2-830E-605F3F8B767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FFD82-F3FD-465C-929C-E729B8BFD21D}" type="datetime1">
              <a:rPr lang="en-US"/>
              <a:t>07/29/26</a:t>
            </a:fld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Sanomien Body-osien schemat:</a:t>
            </a:r>
            <a:br>
              <a:rPr sz="3200"/>
            </a:b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OK kuittaus</a:t>
            </a:r>
            <a:endParaRPr b="0" lang="en-US" sz="3200" spc="-1" strike="noStrike">
              <a:solidFill>
                <a:srgbClr val="6600cc"/>
              </a:solidFill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95640" y="1484280"/>
            <a:ext cx="1609560" cy="666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66560" y="2349360"/>
            <a:ext cx="839016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Hyväksyvä kuittaus viiteaihioiden onnistuneeseen siirtoon. Kuittauksessa ei ole mitään sisältöä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SOAP-ENV: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arb:AckBody xmlns:arb="URN::refdb-body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/SOAP-ENV: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7DAC2-4528-4916-8FBE-5165243D295B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26679-2034-4AEA-AD5A-4AEE03467708}" type="datetime1">
              <a:rPr lang="en-US"/>
              <a:t>07/29/26</a:t>
            </a:fld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Sanomien Body-osien schemat:</a:t>
            </a:r>
            <a:br>
              <a:rPr sz="3200"/>
            </a:b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Virhekuittaus</a:t>
            </a:r>
            <a:endParaRPr b="0" lang="en-US" sz="32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3753000"/>
            <a:ext cx="8389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Hylkäävä kuittaus viiteaihioiden siirtoon. Kuittauksessa voi olla virheilmoituksia sekä virheellisiä viiteaihioi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SOAP-ENV: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arb:NAKBody xmlns:arb="URN::refdb-body"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xmlns="urn::hl7-org/cda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arb:HL7FIErrSeq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95280" y="1592280"/>
            <a:ext cx="6553440" cy="19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F3919-F414-4BBE-87B9-831968580920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4EB0C-0C7B-4591-938B-BC14082373BA}" type="datetime1">
              <a:rPr lang="en-US"/>
              <a:t>07/29/26</a:t>
            </a:fld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Sanomien Body-osien schemat:</a:t>
            </a:r>
            <a:br>
              <a:rPr sz="3200"/>
            </a:b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Viitatun sisällön kysely viitteen avulla</a:t>
            </a:r>
            <a:endParaRPr b="0" lang="en-US" sz="32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2708280"/>
            <a:ext cx="882180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Viitteen avulla tapahtuva kysely. Viitattu sisältö tunnistetaan set_id elementin avull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SOAP-ENV: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arb:QUERY_ID xmlns:arb="URN::refdb-body" Give_Structured_Format="0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arb:set_id EX="20020531111232100" 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          RT="1.2.246.537.10.2013120.1.8123.11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/arb:QUERY_I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/SOAP-ENV: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348000" y="2023920"/>
            <a:ext cx="2409840" cy="2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6670D-4B6E-459C-B9D3-D99112976157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42DFA0-9943-4FF1-9FB0-B1BA476836C5}" type="datetime1">
              <a:rPr lang="en-US"/>
              <a:t>07/29/26</a:t>
            </a:fld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Sanomien Body-osien schemat:</a:t>
            </a:r>
            <a:br>
              <a:rPr sz="3200"/>
            </a:b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Viitatun sisällön vastaus</a:t>
            </a:r>
            <a:endParaRPr b="0" lang="en-US" sz="32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71280" y="2997360"/>
            <a:ext cx="882180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Viitatun sisällön palauttamin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SOAP-ENV: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arb:CDABody xmlns:arb="URN::refdb-body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levelon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clinical_document_head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71640" y="1773360"/>
            <a:ext cx="5038920" cy="99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5BAA0-9DCF-4EF9-AF3A-DB707B0A4E7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7B617-34B4-4C1E-8214-E61DCA916639}" type="datetime1">
              <a:rPr lang="en-US"/>
              <a:t>07/29/26</a:t>
            </a:fld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Sanomien Body-osien schemat:</a:t>
            </a:r>
            <a:br>
              <a:rPr sz="3200"/>
            </a:b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OK-kuittaussanoma</a:t>
            </a:r>
            <a:endParaRPr b="0" lang="en-US" sz="32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2852640"/>
            <a:ext cx="820908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OK Kuittaussanoma (esimerkiksi kuitataan asynkroninen viiteaihioiden lähetys vastaanottokuittauksell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SOAP-ENV: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arb:CommitBody xmlns:arb="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URN::refdb-body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arb:errcode&gt;0&lt;/arb:errcod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arb:errTxt&gt;OK&lt;/arb:errTx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/arb:Commit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/SOAP-ENV: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24360" y="1665360"/>
            <a:ext cx="2695320" cy="92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3835D-B338-4B27-B62A-E92088C14EA8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D64071-9F42-41EA-BF74-80522D47B0AC}" type="datetime1">
              <a:rPr lang="en-US"/>
              <a:t>07/29/26</a:t>
            </a:fld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5T08:42:28Z</dcterms:created>
  <dc:creator>Timo Itälä</dc:creator>
  <dc:description/>
  <dc:language>en-US</dc:language>
  <cp:lastModifiedBy>Timo Itälä</cp:lastModifiedBy>
  <cp:lastPrinted>2002-02-06T05:50:47Z</cp:lastPrinted>
  <dcterms:modified xsi:type="dcterms:W3CDTF">2004-01-10T20:41:01Z</dcterms:modified>
  <cp:revision>310</cp:revision>
  <dc:subject/>
  <dc:title>Uudet schemat</dc:title>
</cp:coreProperties>
</file>